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3956-2A2E-4144-A7A3-8E111C18F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B77D-D814-43C2-8C36-67DBEC55B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112C-AC3C-4E57-8510-84DA511C1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E44F-2B19-4C20-8E48-DAD5911F0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A561-F5FE-4177-A85C-2DDDEC642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1664-B01A-4EB7-B790-787F514D4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3C65-15E5-4B8B-A3D4-D92B48D28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7CD4-33CA-4299-AC05-B4986061B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5EEF-F3FE-4F94-9369-6514E4005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F05A-34DD-499B-B4CB-FA61E9B65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CBF4-2855-4D08-8F71-E1B5B883B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D6F1-F022-449A-9E84-90838D5CE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5EB455-A5C0-4346-B0F8-BD63F78BD160}" type="slidenum"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7621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44792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«Семейный бюджет»                      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81400" y="533520"/>
            <a:ext cx="386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твертый эта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День рожде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52560" y="2550960"/>
            <a:ext cx="735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спланировать проведение праздника исходя из заработанных финансов. Победителем является та команда, у которой останется большее количество дене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0720" y="228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ход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62120"/>
            <a:ext cx="335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91440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049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сход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5079960"/>
            <a:ext cx="236232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5335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63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1" strike="noStrike">
                <a:ln cap="sq"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юджет</a:t>
            </a:r>
            <a:endParaRPr b="1" lang="en-US" sz="4400" spc="1" strike="noStrike">
              <a:ln cap="sq"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733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  план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ходов  и расход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 неделю,  месяц  или  год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5433840"/>
            <a:ext cx="1600200" cy="10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581280" cy="321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609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Бюдже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133720"/>
            <a:ext cx="205740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Доход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денежные  средства,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лучае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т    предприятия  или  государст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133720"/>
            <a:ext cx="182880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Расход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трат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издержки,  потреб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0960" y="6724800"/>
            <a:ext cx="91440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3240" y="6877080"/>
            <a:ext cx="91440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05520" y="1143000"/>
            <a:ext cx="1028520" cy="1440"/>
          </a:xfrm>
          <a:prstGeom prst="line">
            <a:avLst/>
          </a:prstGeom>
          <a:ln cap="sq"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143000"/>
            <a:ext cx="91440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2200" y="51732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доход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517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асхо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228600" y="2041560"/>
            <a:ext cx="960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Зарплата,  коммунальные  услуги,  пенсия,  пособие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пендия,   плата  за  телефон,    плата  за    детский сад,  поход в театр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упка хозяйственных  принадлежностей,  транспортные  расходы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 на  питание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9810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плата, пенсия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, стипендия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600200"/>
            <a:ext cx="307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альные  услуг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а  за  телефон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а  за    детский сад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д в театр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упка хозяйственных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е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ые  расходы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 на  пит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66880" y="304920"/>
            <a:ext cx="2133720" cy="174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1066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джет семь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486400" y="5410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91520" y="464832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62720" y="3886200"/>
            <a:ext cx="12078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895480" y="3886200"/>
            <a:ext cx="1343160" cy="104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80880" y="358128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057400" y="5410080"/>
            <a:ext cx="1324080" cy="1067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7238880" y="380880"/>
            <a:ext cx="1419480" cy="9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иды бюдже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алансированный бюдж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3080" y="2438280"/>
            <a:ext cx="34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 бюдж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42670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ишек бюджета (профицит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133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= 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2560" y="3073320"/>
            <a:ext cx="20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5840" y="5105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2560" y="609480"/>
            <a:ext cx="73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вый этап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емейный бюджет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2560" y="2014560"/>
            <a:ext cx="697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заполнении таблицы оценивается скорость  и правильность выполнени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ерное выполнение задания команда получает премию: 1 место - 20000 рублей, 2 место - 12000 руб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5160" y="2162160"/>
            <a:ext cx="7493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 выполнении задания второго  этапа каждая команда  просчитывает имеющийся бюджет семьи на месяц, проводит предварительное распределение семейного бюджет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ерное выполнение задания команда получает премию: 1 место - 25000 рублей, 2 место - 13000 руб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30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торой эта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Расчет семейного бюджета и заполнение таблиц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14480" y="4381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етий эта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Продуктовая корзина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090880"/>
            <a:ext cx="750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сделать покупки наиболее выгодн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ерное и быстрое выполнение задания семья получает премию: 1 место - 12000 рублей, 2 место – 7000 руб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Админ</cp:lastModifiedBy>
  <dcterms:modified xsi:type="dcterms:W3CDTF">2023-02-15T22:20:0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